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A814-F6B9-44EC-8DB8-CFF73B90D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4258-E083-4627-BF25-E4F031830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6E27-A9D0-43E9-9194-20BF9D962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BEB0-9B6F-4E25-8834-95AABECD0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15A2-F00C-40F8-8584-E637D2846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BDE4-721A-40BD-816F-E054A70116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31C0-144F-4B8A-A948-2C33E12FCF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007D-8D29-4D1D-83DB-B2880DD79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A9C4-34D2-4269-82FF-809B9FDA0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EA94-1A79-40E2-A8E7-EBED457194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FC28-EE96-4988-BDA8-C60E47506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BC47-28BF-4A6B-B01A-921E1A076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0B0A-BDF1-45C1-BBF2-B7A8605609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3D9D-F966-4409-B41C-F9BE6EB70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A2F9-7B7E-45E4-BB2C-802C0FFA38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DCBD-5C3C-4E0A-BC15-00A8AEAEA7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4B90-D813-4EDD-8E1D-304C1906B8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A1D-95FE-4BD3-9B49-2405792BC3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DFE-EFD5-4463-93DE-97C82B51DB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25D-D907-4BC4-A6E0-8EE88636E8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5A0-2C00-4D06-ADEA-4ABB63DA02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DA7-9E76-43C8-9202-705618ADB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7DB6-5962-4B8A-A027-ED8151ED0A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C4D-0C19-4652-B309-00F5207AD5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4B5-9C1D-4111-92E8-AFB9D34079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0D0-4D3B-4674-86F9-DFAED3C494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53A-4E0A-4A4A-9427-B23CC4329F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B24-ABBB-48E5-8A57-DE206CBD59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00D-80A1-4D79-BB29-F6EF0E96C8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F64-31CE-48CE-AF1B-49D1BF2253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6FF79-36DB-4FF1-A68C-B78D0714C0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3EB65-4C43-4381-9BBF-7E1013604D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9B3F3-5486-477C-857A-5148F644F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73F6-D489-4A3B-9305-C2D9FE2DE1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D184A-EB87-4CBB-8BAB-46E954D134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A26D3-BB49-4122-AF64-85067FF954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F26EB-981B-4352-B3B4-3328FBE4A4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13D41-CBA3-4492-91B5-E7BDD3F0E2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8192F-6FA1-44FB-A9F1-750215BDD6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D0DAC-F5C4-428E-8DA9-1FD5DF8F79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3316A-031D-4E5C-9B0D-6044294AF1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D430-A6DC-4F45-BD84-801E050BC3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3E28-AD88-4C21-BA98-25A2316892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9454-AC32-4183-8490-0D37A1385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C704-0F1C-4ED4-AD2B-79AC371EA9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B160E-A354-46E6-8DCE-FB87ED00E7B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985D2-A9DD-4F3E-B4D7-577C2C6418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D1CA4-1B5A-452C-86FD-B1EF29CCE9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30A0-D00D-4E9A-B53C-08BA9310D6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E5587-39A4-4840-A541-82D54855A44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01E78-ECC6-44C6-AA27-6C88FEF674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E7BC1-A54B-4949-BB19-8A308A4B6C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0B7FE-432C-4437-AF0F-B8FFB47BE2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76D1E-A876-483E-A6E5-299963A430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E1D6-069E-4C3E-9974-035B89239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4B26-33B9-4379-8C68-191A99B9AE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5F8DC-A705-4912-88CC-69BAA7C762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E2E0-7C28-4A04-ADBD-F13413CD95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9D39-1336-4CA2-A305-AAC5E4FE274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E521-AA4E-425E-AEE9-A50D610BFC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D179-8984-4FAB-B065-583F393E87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A21-373B-4602-942E-93DE1E3807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AB33-D04D-4F9E-A36B-D69BDA300F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CBB5-BD0C-443E-BCB4-D09A8C6016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F47D-A582-4310-8341-7749AAC048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2EC2-38EB-4163-B028-BE8431E4A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1DFD-90F9-41EB-8CBC-198A3229D4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2025-DA2B-41EC-8CD1-4F9D9CF373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681-AFA2-40A2-BEDD-31BCE38AF0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4633-89FD-4087-828A-5DFFD19689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84168-D797-4D91-B15D-34CC8BEBB4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013A3-3B9C-4102-8826-CB6FF5166D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B7A5E-E0B5-4F87-A090-24348204CF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E878A-B0F3-45CE-873F-755182593F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FA633-A7FA-44AE-95A8-ED47E6A8FA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AF719-EF01-4DB5-9FEC-E6C12CFA58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F2253-F367-4FBB-A35D-63CBEE37F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4214-AF52-4E77-B52E-4577049DF01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534B9-5C84-4B68-9C1F-7A70CF77F4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3F28B-F5A1-4F3C-A209-B5B921E591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70D7E-C319-4444-AD09-B5AB2F8795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57726-3B40-47FD-B65E-65B6E2B799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CC42A-FB24-4896-A5A8-76E86CB37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593B-E893-4767-9E52-F92B0F12A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72760" y="50356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5DB8-2145-42F8-9F92-5A579F2EF11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0E65-5D06-4837-8F2E-19681BEDEB0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4C34-BCED-445A-86C3-024CDDEA0A9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1487160" y="50356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8052-D021-41AE-B576-D48FB37A067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5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275-4749-4667-A8B2-5E84C35684A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D77-CAF5-45F3-86B3-5B8C9E26245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7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E1B3-BC80-4BC2-8C6F-048B8B0FEA9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1473120" y="50356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1DD-5FA7-41A4-8A01-43046540102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Lucida Grande"/>
              </a:rPr>
              <a:t>LIBRARY SPO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2000" spc="-1" strike="noStrike">
                <a:solidFill>
                  <a:srgbClr val="4e5b6f"/>
                </a:solidFill>
                <a:latin typeface="Lucida Grande"/>
              </a:rPr>
              <a:t>Muny Choeu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AFC-EA6E-4A84-8A1A-4E5B13D025F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CF5B-CBD1-47E8-8DC5-349DE862C5D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6822-2235-4B1B-9FE9-7EF8E8F849F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488A-2D0D-4FC3-97FD-75DDE7B8053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1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A59-E42B-4628-B5AE-0EAF6952218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716A-3BF9-4B69-9998-F5145F7C623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1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4AD7-297F-4D4F-AD57-959A9DA59A7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552B-639B-40C1-952D-50A9C097501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Lucida Grande"/>
              </a:rPr>
              <a:t>LIBRARYSPOT.COM</a:t>
            </a:r>
            <a:endParaRPr b="0" lang="en-US" sz="32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brary Spot is a free virtual library resource center for education and students, librarian and their patrons families, business and just about anyone exploring the web for valuable research informatio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s is great web site to look in when you’re doing a research paper or just searching for particular book, I find this site very useful for my research paper and like the fact that it can give me certain resource I need pending on what I’m looking for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793D-F3F0-4629-ADE3-32D44D074D8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D9D9-6601-4484-8A43-F82CBE1880D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D0B-A49E-4C5D-A400-57EDF7F2DFB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76BC-C93D-4827-8D53-EAF98FA7C9D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Lucida Grande"/>
              </a:rPr>
              <a:t>INFORMATION OVERLOAD</a:t>
            </a:r>
            <a:endParaRPr b="0" lang="en-US" sz="44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brary spot breaks through the information overload of the web and bring you only the best library and reference site together with insightful editorial in one in one user-friendly spot.  Site features are hand selected  and reviewed by their editorial team for exceptional quality, content and utilit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FBFD-D80A-4025-A609-A692857FBD1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0AB6-50E5-449D-A7CB-B0F0E0D7729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Lucida Grande"/>
              </a:rPr>
              <a:t>LIBRARIES, READING ROOM, REFERENCE DESK, LIBRARY SPOT.</a:t>
            </a:r>
            <a:endParaRPr b="0" lang="en-US" sz="28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brary spot is the first in a family vertical information portals designed to make findings the best topical information on the internet a quick, easy and enjoyable experienc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find this site very useful and helpful for those in school, who are looking or academic resource, books, and referenc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F670-689E-4C84-8192-04D118BC5FB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8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twork User</dc:creator>
  <dc:description/>
  <cp:keywords/>
  <dc:language>en-US</dc:language>
  <cp:lastModifiedBy>training</cp:lastModifiedBy>
  <dcterms:modified xsi:type="dcterms:W3CDTF">2010-11-13T14:47:30Z</dcterms:modified>
  <cp:revision>6</cp:revision>
  <dc:subject/>
  <dc:title>Library Spot</dc:title>
</cp:coreProperties>
</file>